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3EB-2538-42DF-9711-D7265AEB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91D-8B86-46DE-A47D-402644C2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C8F-7699-4D3C-AA14-23C98BEF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FC5-880B-404E-AE0E-836084A2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230-71ED-465E-81B4-57B71FA7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A60-86D0-48B3-9097-C9A84DA4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3C6-CE27-4A9B-BCEE-051891E0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C70-F200-41A8-BF2B-AB86A8F2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623-28A9-45E3-9F2F-EEFE88E2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2CF-8C1B-4653-9D8E-5E656E7F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AC1-B5F7-4E1F-9EE1-BDD8283B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4FF-D81F-4249-8075-3DFA8411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D8E8-F509-416C-B442-C14E34B09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Name the Par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57240" y="609480"/>
            <a:ext cx="54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30400" y="1523880"/>
            <a:ext cx="5081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30280" y="1635120"/>
            <a:ext cx="44834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17920" y="609480"/>
            <a:ext cx="390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28840" y="771480"/>
            <a:ext cx="2686320" cy="531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640080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www.apple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1160" y="609480"/>
            <a:ext cx="4441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27320" y="609480"/>
            <a:ext cx="6489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0200" y="5867280"/>
            <a:ext cx="57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www.amazon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00160" y="2143080"/>
            <a:ext cx="5143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3800" y="609480"/>
            <a:ext cx="701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38560" y="209556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52480" y="5791320"/>
            <a:ext cx="388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www.amazon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609480"/>
            <a:ext cx="4991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05000" y="609480"/>
            <a:ext cx="473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0720" y="59436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www.apple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8160" y="609480"/>
            <a:ext cx="546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67080" y="838080"/>
            <a:ext cx="4209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81360" y="738360"/>
            <a:ext cx="537984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48040" y="1000080"/>
            <a:ext cx="5047920" cy="485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6324480"/>
            <a:ext cx="579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www.alienware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6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38560" y="209556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5638680"/>
            <a:ext cx="487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www.amazon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30:41Z</dcterms:created>
  <dc:creator>Nicole Meintz</dc:creator>
  <dc:description/>
  <dc:language>en-US</dc:language>
  <cp:lastModifiedBy>Franklin High School</cp:lastModifiedBy>
  <dcterms:modified xsi:type="dcterms:W3CDTF">2008-04-02T14:47:23Z</dcterms:modified>
  <cp:revision>2</cp:revision>
  <dc:subject/>
  <dc:title>Name the Part</dc:title>
</cp:coreProperties>
</file>